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CBC-F18A-49C5-8B5E-010AF6A1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ntion? Who gets the attribution?  Does it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recent revie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ppropriate use of time?  Cost-benefit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67C-E30F-4ECB-9DFC-CF2D607F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4A6-6A45-4A35-94D7-644C8145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261-70AD-4EA0-BADD-39510B3F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7AE-E35E-457E-98ED-1E4398B3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16B-1D14-4E98-A82A-792A047C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D46-2F8C-47A4-8A77-0344CD5A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DDC-C968-466F-A51D-398F2C4E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500-6AA0-4C4C-84C8-D95E037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033-7B11-4894-9502-4CEBD78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50A-E7E1-4543-9FAD-5817B1B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0DD-967F-48C7-86C0-317D59E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280-BCB0-4E92-85EF-6B0570D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388-252F-4BF1-AE0E-16B281305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enotype Annotation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s are associated to organisms (germplasms) and linked to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is mainly done in unstructured ful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study of structured annotation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 not yet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6876" t="21093" r="23126" b="36720"/>
          <a:stretch/>
        </p:blipFill>
        <p:spPr>
          <a:xfrm>
            <a:off x="609480" y="762120"/>
            <a:ext cx="7848720" cy="441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376" t="12500" r="20625" b="5467"/>
          <a:stretch/>
        </p:blipFill>
        <p:spPr>
          <a:xfrm>
            <a:off x="1030320" y="76320"/>
            <a:ext cx="6132600" cy="67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9377" t="18749" r="15001" b="17188"/>
          <a:stretch/>
        </p:blipFill>
        <p:spPr>
          <a:xfrm>
            <a:off x="0" y="380880"/>
            <a:ext cx="8991720" cy="609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4495680" y="3048120"/>
            <a:ext cx="2894040" cy="703080"/>
            <a:chOff x="4495680" y="3048120"/>
            <a:chExt cx="2894040" cy="703080"/>
          </a:xfrm>
        </p:grpSpPr>
        <p:sp>
          <p:nvSpPr>
            <p:cNvPr id="56" name=""/>
            <p:cNvSpPr/>
            <p:nvPr/>
          </p:nvSpPr>
          <p:spPr>
            <a:xfrm>
              <a:off x="4800600" y="313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8320" y="3292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8320" y="3444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3597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99320" y="3048120"/>
              <a:ext cx="239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papilla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tyl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eptum development:incomp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leaf:ser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challenges as othe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rpus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number of curators with many diverse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ways of paper prior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turing phenotypes from the litera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single aspect of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multiple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 describing different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, describing the same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ing complex annotations in the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now, GO as a model for asso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ne product + 1 CV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multiple ontologies in one assoc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rmplasm + 1 anatomy term + 1 PATO term (+ o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13:25Z</dcterms:created>
  <dc:creator>tberardi</dc:creator>
  <dc:description/>
  <dc:language>en-US</dc:language>
  <cp:lastModifiedBy>Mark Berardini</cp:lastModifiedBy>
  <dcterms:modified xsi:type="dcterms:W3CDTF">2006-12-01T23:21:29Z</dcterms:modified>
  <cp:revision>33</cp:revision>
  <dc:subject/>
  <dc:title>PATO exercise at TAIR</dc:title>
</cp:coreProperties>
</file>